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1FC6-97F6-410A-8A91-EB56FE95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03DD-DB81-4D42-92A2-67094CA4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31DE-E61B-4151-8B90-E6FE1334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E8A1-44AC-4FF0-9B9D-2DB9FDBA2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64C3-63D7-46BB-A3FD-76C305C1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7E0E-1704-4BC1-A916-E238EBDD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B7E3-83A2-4436-8D54-681E4FAE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46B9-0FA8-4D37-B1DC-70D6950A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24DC-EF25-457A-A297-9D177E81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1264-A5B2-4247-829F-1F3A11E7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7B6C-F738-4A6A-8CDB-2FC54FA3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EE0B-71F6-490F-95E5-58B80900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88D3-AC72-4BCD-AB1F-E0D17D05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68CC-31BF-4CBB-A4A8-C3D489B0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B84C-7006-4A6A-AA0F-FF09B828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38A9-1620-442A-A77B-83A98D8E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6726-584B-4E6A-A909-DFDFCF95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DF9B-E8CE-4F74-B4BE-1F2BDC74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CED0-A605-41C4-A982-E097C09E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D800-133C-4428-81B3-2EFEE955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BF8F-6287-4604-B1A5-50BF87B5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DE0A-F60D-4F84-84B4-8655E49D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E8C-9882-447F-8F80-972AC399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0975-1747-4DD5-BC23-31ABB60F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CD1C-59C5-4A91-8553-AAF11D126BE2}" type="datetime">
              <a:rPr b="0" lang="en-US" sz="1200" spc="-1" strike="noStrike">
                <a:solidFill>
                  <a:srgbClr val="bcbcbc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A9F6-4F5A-443F-A0AD-126AAABDFDEB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8CB5-7C63-47CA-8BD7-A6300C39B450}" type="datetime">
              <a:rPr b="0" lang="en-US" sz="1200" spc="-1" strike="noStrike">
                <a:solidFill>
                  <a:srgbClr val="bcbcbc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DFC0-4922-4A72-A8D7-C151973485A9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6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327880" cy="2067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1700-177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ligion less fervent than it used to be in colon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iberal ideas challenged relig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onathan Edwards- pastor who ignited G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elieved in need for complete dependence on God’s grace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nners in the Hands of an Angry God”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eorge Whitefield- eloquent preacher, emotional appeal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2" name="Picture 6" descr="j edwards.bmp"/>
          <p:cNvPicPr/>
          <p:nvPr/>
        </p:nvPicPr>
        <p:blipFill>
          <a:blip r:embed="rId3"/>
          <a:stretch/>
        </p:blipFill>
        <p:spPr>
          <a:xfrm>
            <a:off x="7291440" y="4952880"/>
            <a:ext cx="1852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59840" cy="1152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LD LIGH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EW LIGH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rthodox clergymen who did not want to dilute their churche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keptical of the emotionalism and theatrical antics of revivalis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raveling preachers, with emotional sermons appealing to human behavior and God’s fu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vitalized American religion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itle 6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1236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3008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Primarily centered in New England tow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colleges focused on training of minist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First non-denominational college: University of Pennsylvani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0" name="Content Placeholder 9" descr="msu-shrine94.jpg"/>
          <p:cNvPicPr/>
          <p:nvPr/>
        </p:nvPicPr>
        <p:blipFill>
          <a:blip r:embed="rId3"/>
          <a:stretch/>
        </p:blipFill>
        <p:spPr>
          <a:xfrm>
            <a:off x="3581280" y="685800"/>
            <a:ext cx="5105520" cy="44956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0"/>
          <p:cNvSpPr/>
          <p:nvPr/>
        </p:nvSpPr>
        <p:spPr>
          <a:xfrm>
            <a:off x="3657600" y="5410080"/>
            <a:ext cx="49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University of Pennsylva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12366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ohn Peter Zenger who had written against a royal colonial governo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fended by lawyer Alexander Hamilt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stablished freedom of pres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rue statements are not lib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4" name="Content Placeholder 6" descr="51G9N3ZQ5RL.jpg"/>
          <p:cNvPicPr/>
          <p:nvPr/>
        </p:nvPicPr>
        <p:blipFill>
          <a:blip r:embed="rId3"/>
          <a:srcRect l="-4032" t="0" r="-4032" b="0"/>
          <a:stretch/>
        </p:blipFill>
        <p:spPr>
          <a:xfrm>
            <a:off x="3575160" y="272880"/>
            <a:ext cx="51116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BY 1775 GREAT BRITAIN RULED 32 NORTH AMERICAN COLONIES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ERRITORIAL EXPANSION 1775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y 1775 colonial population was dramatically increas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.5 million people in 13 colon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verage age was 16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ural society…90% were farm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Content Placeholder 8" descr="us_terr_1775.jpg"/>
          <p:cNvPicPr/>
          <p:nvPr/>
        </p:nvPicPr>
        <p:blipFill>
          <a:blip r:embed="rId3"/>
          <a:srcRect l="0" t="-17764" r="0" b="-17764"/>
          <a:stretch/>
        </p:blipFill>
        <p:spPr>
          <a:xfrm>
            <a:off x="4645080" y="2362320"/>
            <a:ext cx="40417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THNIC DIVERS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GULATO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ostly English peopl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6% German (Lutheran &amp; Pennsylvania Dutch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7% Scots-Irish; squatter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cots-Irish became revolutionari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Book Antiqua"/>
              </a:rPr>
              <a:t>Paxton Boys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ed a march on Philadelphia to protest “fair” treatment of Indian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gulators led a march in North Carolina to protest certain North Carolina “geographic powers”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4" name="Picture 6" descr="alammem.jpg"/>
          <p:cNvPicPr/>
          <p:nvPr/>
        </p:nvPicPr>
        <p:blipFill>
          <a:blip r:embed="rId3"/>
          <a:stretch/>
        </p:blipFill>
        <p:spPr>
          <a:xfrm>
            <a:off x="5029200" y="4375080"/>
            <a:ext cx="41148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6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1225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African Slaves and Native Americans also part of new “American”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any mixed peopl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Mingled &amp; intermarriage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America was a land of opportunit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The south: black &amp; white racial composit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The north: least ethnic diversit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iddle: biggest diversit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7" name="Content Placeholder 9" descr="benfranklin1.jpg"/>
          <p:cNvPicPr/>
          <p:nvPr/>
        </p:nvPicPr>
        <p:blipFill>
          <a:blip r:embed="rId3"/>
          <a:stretch/>
        </p:blipFill>
        <p:spPr>
          <a:xfrm>
            <a:off x="3962520" y="609480"/>
            <a:ext cx="4267080" cy="4724640"/>
          </a:xfrm>
          <a:prstGeom prst="rect">
            <a:avLst/>
          </a:prstGeom>
          <a:ln w="0">
            <a:noFill/>
          </a:ln>
        </p:spPr>
      </p:pic>
      <p:sp>
        <p:nvSpPr>
          <p:cNvPr id="98" name="TextBox 10"/>
          <p:cNvSpPr/>
          <p:nvPr/>
        </p:nvSpPr>
        <p:spPr>
          <a:xfrm>
            <a:off x="4038480" y="5791320"/>
            <a:ext cx="48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Ultimate Rags to Riches 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1225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ich plantation owners: many slav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Yeoman farmers:  owned farms w/ some slav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andless whites: tenant farmers (former indentured servants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1" name="Content Placeholder 6" descr=""/>
          <p:cNvPicPr/>
          <p:nvPr/>
        </p:nvPicPr>
        <p:blipFill>
          <a:blip r:embed="rId3"/>
          <a:stretch/>
        </p:blipFill>
        <p:spPr>
          <a:xfrm>
            <a:off x="3554280" y="255600"/>
            <a:ext cx="515160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ERG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LONIAL PHYSICIA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ergy were honored in colonial day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hysicians: not highly trained but still had great amount of author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leeding was the most famous remed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mallpox was rampant (inoculations began in 1721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9" descr="cotton mather.jpg"/>
          <p:cNvPicPr/>
          <p:nvPr/>
        </p:nvPicPr>
        <p:blipFill>
          <a:blip r:embed="rId3"/>
          <a:stretch/>
        </p:blipFill>
        <p:spPr>
          <a:xfrm>
            <a:off x="380880" y="36576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smallpox-victim_450.jpg"/>
          <p:cNvPicPr/>
          <p:nvPr/>
        </p:nvPicPr>
        <p:blipFill>
          <a:blip r:embed="rId4"/>
          <a:stretch/>
        </p:blipFill>
        <p:spPr>
          <a:xfrm>
            <a:off x="4495680" y="5105520"/>
            <a:ext cx="4286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12366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griculture: the biggest activ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ishing and whal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Triangular Trad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anufacturing &amp; secondary industr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killed craftsme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Lumbering for Britain’s navy was a big indust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1" name="Content Placeholder 4" descr="lumber1.jpg"/>
          <p:cNvPicPr/>
          <p:nvPr/>
        </p:nvPicPr>
        <p:blipFill>
          <a:blip r:embed="rId3"/>
          <a:srcRect l="0" t="-29213" r="0" b="-29213"/>
          <a:stretch/>
        </p:blipFill>
        <p:spPr>
          <a:xfrm>
            <a:off x="3575160" y="272880"/>
            <a:ext cx="51116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09120" y="1523880"/>
            <a:ext cx="404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OADS WERE POOR AND CONNECTED ONLY CIT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RAVEL BY CANALS AND RIVER BOATS ALSO OCCURR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EFFICIENT MAIL SYSTE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ARLY TAVER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5" name="Content Placeholder 4" descr="tavern 1.jpg"/>
          <p:cNvPicPr/>
          <p:nvPr/>
        </p:nvPicPr>
        <p:blipFill>
          <a:blip r:embed="rId3"/>
          <a:srcRect l="0" t="-12095" r="0" b="-12095"/>
          <a:stretch/>
        </p:blipFill>
        <p:spPr>
          <a:xfrm>
            <a:off x="2819520" y="4572000"/>
            <a:ext cx="2754360" cy="2565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long with town meetings, “the cradle of democracy”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ll social classes mingled he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Anglican Church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(Church of England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aith less fierce &amp; more worldly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illiam and Mary established to train Anglican minist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Congregational-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ther established church; grew out of Puritan church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15:41:06Z</dcterms:created>
  <dc:creator>brissettematthew</dc:creator>
  <dc:description/>
  <dc:language>en-US</dc:language>
  <cp:lastModifiedBy>emily.johnson</cp:lastModifiedBy>
  <dcterms:modified xsi:type="dcterms:W3CDTF">2012-09-17T15:06:45Z</dcterms:modified>
  <cp:revision>28</cp:revision>
  <dc:subject/>
  <dc:title>Conquest by Cradle</dc:title>
</cp:coreProperties>
</file>